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0622-7B89-4E74-A899-9EFD810D0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hell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eas availabl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floor common area [sitting areas, pool tables, shuffleboard, etc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rooms 2 and 3 [ tables &amp; chairs for board games] in Bayview will be the social gathering space. Each evening around 8:30 p.m. snacks and ice will be provid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n space in Mardon Lo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ie &amp; She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of fragile state of content knowledge for teaching by teachers with whom we and other steering team leads hav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focus on CKT-M; a new vision with a focus on the big ideas in Number and other Relevant Big Ideas that focus on PR; anc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um and continued need to support MoE’s sharpened focus on differentiating instruction through ques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year’s breakout sessions will now be interwoven throughout all sessions; these will support participants in their exploration of the big ideas and differentiating instruction through ques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 to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stigate interconnections among these critical learnings as enabled through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less speaking and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ing to expose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ding to provide appropriate scaffolding and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egic planning to embed student success indicators with framework for math camppp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networks within and across boards will continue to grow leadership across the provi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light of this year’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aching for Math GA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, a coaching dimension (specifically co-planning) will be embedded within the camppp.  This will provide participants with the opportunity to deepen their understanding of the big ideas and consider applications of DI through ques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 of Marian’s plenary – confirm with 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8A44-FE9D-4CB2-8196-36BB82D6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2E16-580C-4258-82DC-917D35DD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8151-5ECB-4F3D-B40A-16CCFB05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B00E-BD97-4F2C-A78F-21EB313B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451A-41DB-4DD8-B7E4-A55EA70C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3E70-11DD-4FAA-9EDC-8AA3B620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AE2D-0A25-494A-92C5-BED8ED20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BC03-1A83-42C8-B6D6-14A248E4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BF3C-BBAD-4F4F-B2FE-03FB2425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3C32-576B-490B-A4B3-9B91C5D1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AF0B-CBF9-41C9-B2EC-E993217A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744F-3985-4E94-B58B-90564704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3BB3-BB5B-4B1C-93C0-9345ACA6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8A1D-872A-4838-8361-FBFF799F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F50A-2DE7-4906-89B9-DCA28CB8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2655-A35B-4ED1-A1EC-4FFFF821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1875-7F39-4F82-835C-811A5078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18F8-DEDB-4595-9973-4E619852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73BA-CBFF-4885-8CBE-AECB69E3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5F26-604D-4041-AEC7-5CEF1F87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D882-BBF3-45E6-8AC1-A0CCA4BA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4120-E4D0-44BD-BD0E-94E0E216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12E3-5890-4D46-BD6E-ACA817C0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2E19-9837-4FDB-A118-89BC006F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E450-F8C6-484A-A57E-41E4922BB85F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1CEA-11C8-4491-BDF5-35CEED9A7A52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gains-camppp.wikispaces.com/CAMPPP+2010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80036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  <a:ea typeface="Arial"/>
              </a:rPr>
              <a:t>Welcome Session</a:t>
            </a:r>
            <a:br>
              <a:rPr sz="4800"/>
            </a:br>
            <a:r>
              <a:rPr b="0" lang="en-US" sz="1800" spc="-1" strike="noStrike">
                <a:solidFill>
                  <a:srgbClr val="0d469b"/>
                </a:solidFill>
                <a:latin typeface="Book Antiqua"/>
                <a:ea typeface="Arial"/>
              </a:rPr>
              <a:t>Monday August 16</a:t>
            </a:r>
            <a:r>
              <a:rPr b="0" lang="en-US" sz="1800" spc="-1" strike="noStrike" baseline="30000">
                <a:solidFill>
                  <a:srgbClr val="0d469b"/>
                </a:solidFill>
                <a:latin typeface="Book Antiqua"/>
                <a:ea typeface="Arial"/>
              </a:rPr>
              <a:t>th</a:t>
            </a:r>
            <a:r>
              <a:rPr b="0" lang="en-US" sz="1800" spc="-1" strike="noStrike">
                <a:solidFill>
                  <a:srgbClr val="0d469b"/>
                </a:solidFill>
                <a:latin typeface="Book Antiqua"/>
                <a:ea typeface="Arial"/>
              </a:rPr>
              <a:t>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lenary Presenter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Marian Small, Consultant and Aut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Program:  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916280"/>
            <a:ext cx="8388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cused Breakout Session Descriptions &amp; Speaker Biogra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-2: Proportional Reasoning: Laying the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-6: Proportional Reasoning: A Focus on Multiplicativ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/8: Proportional Reasoning: A Focus on Ratio and Fractional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/10: Proportional Reasoning: A Focus on Proportional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/12: Proportional Reasoning: Building to More Complex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aders: Creating an Environment for Mathematical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761760"/>
            <a:ext cx="889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Focused Breakout Session Presenter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Lynd, Retired from Trillium Lakelands 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nnis Fleming, Literacy and Numeracy Secret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na Micomonaco, York Catholic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y Chaput, Wellington Catholic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e Davis, Halton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yce Tonner, Thames Valley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250560" y="761760"/>
            <a:ext cx="889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Focused Breakout Session Presenter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&amp;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Ford, Kawartha Pine Ridge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elle Lang, Waterloo Region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bie Wines, Trillium Lakelands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250560" y="761760"/>
            <a:ext cx="889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Focused Breakout Session Presenter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&amp;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l Alves, Peel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ia Ellison, Halton Catholic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sh Steele, Simcoe County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250560" y="761760"/>
            <a:ext cx="889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Focused Breakout Session Presenter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&amp;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rley Dalyrmple, York Region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isa Suurtamm, DSB of Niag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en Timson, York Region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50560" y="761760"/>
            <a:ext cx="889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Focused Breakout Session Presenter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ie Quadrini, York Catholic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lley Yearley, Trillium Lakelands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50560" y="761760"/>
            <a:ext cx="889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Focused Breakout Session Presenter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rganize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ye Appleby, Retired – Lond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rna Ingalls, Ministry of Education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ie Quadrini, Math Consultant – YCDS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lley Yearley, Math Consultant – TLDS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Program:  Useful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376360" y="1700280"/>
            <a:ext cx="38293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elcome Sess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&amp; Intro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on for Math CAMPPP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 CAMPPP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king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S CAMPPP Wiki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lossary – Frayer Mode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31640" y="1925640"/>
            <a:ext cx="8256600" cy="47433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ttendanc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ion in all sessions is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Kaye Appleby in the event of an unanticipated ab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Networki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y for campppers to get to know one another and engage in informal focused conver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as avail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ond floor common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rooms 2 and 3 in Bayview will be the social gathering space. Each evening around 8:30 p.m. snacks and ice will be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mon space in Mardon Lo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7280" y="7621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Housekee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od aller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th CAMPPP memory sti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ense claims –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Video and artefact permission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king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Kempenfelt Conference Centre – phone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arking Lo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720880" y="2205000"/>
            <a:ext cx="3614760" cy="38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87280" y="7621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CAMPPP 2010 W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5910480" cy="2060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456000" y="4005360"/>
            <a:ext cx="550872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gains-camppp.wikispaces.com/CAMPPP+2010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008000" y="3970440"/>
            <a:ext cx="2376720" cy="19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16000" y="4689360"/>
            <a:ext cx="86868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d469b"/>
                </a:solidFill>
                <a:latin typeface="Arial"/>
                <a:ea typeface="Arial"/>
              </a:rPr>
              <a:t>Enjoy Math CAMPPP!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3640" y="1628640"/>
            <a:ext cx="7093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We all need someone who inspires us to do better than we know h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A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987640" y="3122640"/>
            <a:ext cx="3205080" cy="3619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6000" y="219852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earless Speaking and 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3080" y="1430280"/>
            <a:ext cx="1830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sponding to Provide Appropriate Scaffolding and Challe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43120" y="96192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Questioning to Evoke and Expose Thin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27280" y="4167360"/>
            <a:ext cx="21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Establishing Math Talk Learning Comm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51280" y="495936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Assessment for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2583000"/>
            <a:ext cx="26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rial"/>
              </a:rPr>
              <a:t>Differentiated Instruction through Questio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68720" y="4851360"/>
            <a:ext cx="162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Effective Uses of Manipulatives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95640" y="3446640"/>
            <a:ext cx="30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Teaching through the Mathematical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5672160"/>
            <a:ext cx="205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Consistency and Alignment of Assessments of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5294160"/>
            <a:ext cx="164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ff"/>
                </a:solidFill>
                <a:latin typeface="Arial"/>
              </a:rPr>
              <a:t>Building Networks Within and Across Bo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56360" y="5211720"/>
            <a:ext cx="2051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ff"/>
                </a:solidFill>
                <a:latin typeface="Arial"/>
              </a:rPr>
              <a:t>Engaging in Reflective Practice through Collaborative Learning and Co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1535040"/>
            <a:ext cx="29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Deepening Understanding of Pedagogical Content 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2060640"/>
            <a:ext cx="144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Focusing on Important Mathema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92360" y="2276640"/>
            <a:ext cx="3995640" cy="450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68720" y="873000"/>
            <a:ext cx="28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Big Ideas Relevant to Proportional Reasoning, K-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7920"/>
            <a:ext cx="644364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  <a:ea typeface="Arial"/>
              </a:rPr>
              <a:t>Vision for Math CAMPPP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14920" y="2097000"/>
            <a:ext cx="169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Teaching for Conceptual Understa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657360"/>
            <a:ext cx="5616720" cy="6167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0" y="9111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430440" y="1052640"/>
            <a:ext cx="3919680" cy="53226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oals for Math CAMPPP 2009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leave CAMPPP know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practise the following in a safe environm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leave CAMPPP believing th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Big Ideas for Number and Other Relevant Big Idea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771640" y="2016000"/>
            <a:ext cx="3645000" cy="46166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Program: 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26920" y="1881360"/>
          <a:ext cx="357984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81360"/>
                    <a:ext cx="357984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43280" y="1881360"/>
            <a:ext cx="36226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IPS 2.0 and PPQ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1773360"/>
            <a:ext cx="3897360" cy="4824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751280" y="1736640"/>
            <a:ext cx="3826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Program:  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916280"/>
            <a:ext cx="8388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enary Session Description &amp; Speaker B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king the Big Ideas Relevant to Proportional Reasoning Meaningful to All of Our Stud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Information Systems</cp:lastModifiedBy>
  <dcterms:modified xsi:type="dcterms:W3CDTF">2010-08-13T17:38:48Z</dcterms:modified>
  <cp:revision>131</cp:revision>
  <dc:subject/>
  <dc:title>Slide 1</dc:title>
</cp:coreProperties>
</file>